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DA4-9245-4B6A-999F-CE65565A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50C-3B39-4B1D-899D-1AEEB568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E0E-FB76-4AA2-9873-2425A1EB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1E4-3FD3-480A-8E27-C89E778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8C6-FAA0-4EE6-95EC-8DE24441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858E-E76E-46F1-8576-59B971BC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532-30AA-4806-B93E-505E2E6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B48-D328-49E8-83F0-39195D12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C32-9E3C-4CD7-841B-69FC2A1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FB2-4397-4D05-8A5E-7FD6493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A623-ACD2-4849-B913-125478D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437-2057-4F65-AD62-33D2DCD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638-F7C9-4184-AE26-B3544B4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0BDF-9D6E-41BB-A4DE-3E5FE31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DCA1-2E75-4133-9E9F-FD213111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4D0-CBDF-4BB7-BB78-CEFDDF9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C1B-8A4C-46B9-A3E2-5F3F8404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24B-9426-435F-96C5-734332BB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D46-E91D-4E02-B5D0-0A86F11F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694-FD95-4E0D-B891-4DF3C26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D1B-1B49-4A6D-890C-E7C31909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113-725E-42FC-9A8F-8BFAEF2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587-E590-4E90-AF89-02BE59F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89A-5C98-4002-9485-20A2F39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781-74C4-4B70-A735-53F0EA97D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55C-631D-4CDB-ADA9-9D590B3257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28520"/>
            <a:ext cx="6781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блемный вопрос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в жизни используются неравенства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24506" t="0" r="0" b="18268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7715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Теперь хотим рассказать где они применяютс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642600"/>
            <a:ext cx="8305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есть бедные люди и богат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оциальное нераве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на работе платят мень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м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классе 5 мальчиков и 20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же получается неравен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очек больше чем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в магазине, например когда взвешивают чт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рр.jpg"/>
          <p:cNvPicPr/>
          <p:nvPr/>
        </p:nvPicPr>
        <p:blipFill>
          <a:blip r:embed="rId1"/>
          <a:stretch/>
        </p:blipFill>
        <p:spPr>
          <a:xfrm>
            <a:off x="6429240" y="1071720"/>
            <a:ext cx="20466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м и д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5572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весы.jpg"/>
          <p:cNvPicPr/>
          <p:nvPr/>
        </p:nvPicPr>
        <p:blipFill>
          <a:blip r:embed="rId3"/>
          <a:stretch/>
        </p:blipFill>
        <p:spPr>
          <a:xfrm>
            <a:off x="3143160" y="5143680"/>
            <a:ext cx="1952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285480"/>
            <a:ext cx="800748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ш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олучили, что неравенства в нашей жизни присутствуют везде – на экране телевизора, в литературе, на работе, в магазинах, в поездах и самолетах,  в сфере досуга, при организации обучения детей, на автострадах и городских улицах, в жилых кварталах и дачных поселках, в семьях, на всех уровнях отношений с окружающими людьми, почти в любом общении. И от него никуда не де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math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Nicolai</cp:lastModifiedBy>
  <dcterms:modified xsi:type="dcterms:W3CDTF">2011-06-09T12:04:45Z</dcterms:modified>
  <cp:revision>11</cp:revision>
  <dc:subject/>
  <dc:title>Квадратные неравенства</dc:title>
</cp:coreProperties>
</file>